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C2E-C57F-40F1-B895-EEA6E0E3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9B5-7930-43F5-AE05-5369B48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A8A-7FC6-442F-AEFC-1CBB9E4A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60F-E0D0-4815-BC87-F6FB4325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E2F-FB8C-463B-B300-A8A785E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A2D-69FC-4514-BF4A-7698C92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385-C5DB-4F2B-9888-B2792733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B19-70B7-4C03-A26F-C619CCDE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E22-09F4-40B6-9155-75FE590B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AE1-462C-4500-9BBE-18A0B91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DB2-03D8-47AE-B632-247E383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B29-E7F4-4778-A25F-711EE15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4076-37E3-49C2-AD33-F4BDD76A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postfix.org/" TargetMode="External"/><Relationship Id="rId2" Type="http://schemas.openxmlformats.org/officeDocument/2006/relationships/hyperlink" Target="http://www.porcupine.org/wietse/" TargetMode="External"/><Relationship Id="rId3" Type="http://schemas.openxmlformats.org/officeDocument/2006/relationships/hyperlink" Target="http://www.sendmail.org/" TargetMode="External"/><Relationship Id="rId4" Type="http://schemas.openxmlformats.org/officeDocument/2006/relationships/hyperlink" Target="http://www.securitysage.com/" TargetMode="External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333399"/>
                </a:solidFill>
                <a:latin typeface="Verdana"/>
              </a:rPr>
              <a:t>Postfix</a:t>
            </a:r>
            <a:br>
              <a:rPr sz="4400"/>
            </a:br>
            <a:r>
              <a:rPr b="1" lang="de-CH" sz="4400" spc="-1" strike="noStrike">
                <a:solidFill>
                  <a:srgbClr val="333399"/>
                </a:solidFill>
                <a:latin typeface="Verdana"/>
              </a:rPr>
              <a:t>Master of the M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233280"/>
            <a:ext cx="1495440" cy="493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3360" y="58993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333399"/>
                </a:solidFill>
                <a:latin typeface="Verdana"/>
              </a:rPr>
              <a:t>LOTS Event 18. Februa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52840" y="2916360"/>
            <a:ext cx="38098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97720" y="4932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8160" y="540396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333399"/>
                </a:solidFill>
                <a:latin typeface="Verdana"/>
              </a:rPr>
              <a:t>Martin Za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8120" y="907920"/>
            <a:ext cx="8229600" cy="5720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16280" y="233280"/>
            <a:ext cx="698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rchitecture - The Big Pi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16280" y="309600"/>
            <a:ext cx="698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rchitecture – Receiveing Ema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954000"/>
            <a:ext cx="889344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16280" y="309600"/>
            <a:ext cx="698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rchitecture – The Queue Manag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840" y="985680"/>
            <a:ext cx="9047160" cy="572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6280" y="309600"/>
            <a:ext cx="698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rchitecture – Sending Em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460520"/>
            <a:ext cx="8642160" cy="484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85920" y="907920"/>
            <a:ext cx="535644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Email and D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8200" y="1314360"/>
            <a:ext cx="5789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X record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provid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ail-routing informatio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 They specif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ail exchanger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for domains — that is, the names of the mail hubs that handle all the mail for a domain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MX records tell MTAs where to send messages. Since a domain can have multiple mail exchangers, MX records include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preference valu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6640" y="1512720"/>
            <a:ext cx="194148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62360" y="4734000"/>
            <a:ext cx="4038480" cy="1630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85920" y="907920"/>
            <a:ext cx="535644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Mail Rela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7360" y="1314360"/>
            <a:ext cx="801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y default, the Postfix smtpd daemon will accept mail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only from or to the local network or domai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or to domains that are hosted by Postfix, so that your system can't be used as a mail relay to forward bulk mail from random strang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7880" y="3102120"/>
            <a:ext cx="7786800" cy="2884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85920" y="907920"/>
            <a:ext cx="6300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41640" y="1314360"/>
            <a:ext cx="48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t is very common these days for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single system to host many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or instance,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saphir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akadia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might run on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ingle hos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but act as if they were two totally different h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system usually has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anonical domai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which is considered its usual or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ommon domain nam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dditional domains are configured as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virtual domai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3680" y="998640"/>
            <a:ext cx="3568680" cy="576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2360" y="907920"/>
            <a:ext cx="5400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48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r>
              <a:rPr b="1" lang="de-CH" sz="36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6600" y="233280"/>
            <a:ext cx="864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irtual Domains –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Shared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Mailboxes with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local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Account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7000" y="1314360"/>
            <a:ext cx="526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imply add your virtual domains to the </a:t>
            </a:r>
            <a:r>
              <a:rPr b="0" i="1" lang="en-US" sz="2000" spc="-1" strike="noStrike">
                <a:solidFill>
                  <a:srgbClr val="4aacb4"/>
                </a:solidFill>
                <a:latin typeface="Verdana"/>
              </a:rPr>
              <a:t>mydestinatio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reate user account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s you normally would, and they can start receiving mail addressed to any of the dom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On a system whos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anonical nam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is </a:t>
            </a:r>
            <a:r>
              <a:rPr b="0" i="1" lang="en-US" sz="2000" spc="-1" strike="noStrike">
                <a:solidFill>
                  <a:srgbClr val="4aacb4"/>
                </a:solidFill>
                <a:latin typeface="Verdana"/>
              </a:rPr>
              <a:t>akadia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hosting two virtual domains, </a:t>
            </a: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saphir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990033"/>
                </a:solidFill>
                <a:latin typeface="Verdana"/>
              </a:rPr>
              <a:t>opal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the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mydomai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parameter is set as if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akadia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ere the only dom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2720" y="5653080"/>
            <a:ext cx="75150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domain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ka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destination = $mydomain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opal.com, saphi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920" y="998640"/>
            <a:ext cx="27432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2680" y="233280"/>
            <a:ext cx="8599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irtual Domains –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Separate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Mailboxes with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local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Account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37000" y="1224000"/>
            <a:ext cx="52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With separate domains, mail to </a:t>
            </a:r>
            <a:r>
              <a:rPr b="0" i="1" lang="en-US" sz="2000" spc="-1" strike="noStrike">
                <a:solidFill>
                  <a:srgbClr val="0066ff"/>
                </a:solidFill>
                <a:latin typeface="Verdana"/>
              </a:rPr>
              <a:t>info@saphir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should go to a different mailbox than mail to </a:t>
            </a:r>
            <a:r>
              <a:rPr b="0" i="1" lang="en-US" sz="2000" spc="-1" strike="noStrike">
                <a:solidFill>
                  <a:srgbClr val="990033"/>
                </a:solidFill>
                <a:latin typeface="Verdana"/>
              </a:rPr>
              <a:t>info@opal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You must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reate a user accoun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for every email address that will receive messages on your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int the </a:t>
            </a:r>
            <a:r>
              <a:rPr b="0" i="1" lang="en-US" sz="2000" spc="-1" strike="noStrike">
                <a:solidFill>
                  <a:srgbClr val="4aacb4"/>
                </a:solidFill>
                <a:latin typeface="Verdana"/>
              </a:rPr>
              <a:t>virtual_alias_map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parameter to the virtual alias lookup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46280" y="5010120"/>
            <a:ext cx="6346800" cy="164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_alias_maps = hash:virtual_a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ff"/>
                </a:solidFill>
                <a:latin typeface="Courier New"/>
              </a:rPr>
              <a:t>saphir.com         Virtual Domain for saphi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fo@saphir.com    zahn@localhost</a:t>
            </a:r>
            <a:br>
              <a:rPr sz="1600"/>
            </a:br>
            <a:r>
              <a:rPr b="1" lang="de-CH" sz="1600" spc="-1" strike="noStrike">
                <a:solidFill>
                  <a:srgbClr val="990033"/>
                </a:solidFill>
                <a:latin typeface="Courier New"/>
              </a:rPr>
              <a:t>opal.com           Virtual Domain for opa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Courier New"/>
              </a:rPr>
              <a:t>info@opal.com      mueller@localh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24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1280" y="819000"/>
            <a:ext cx="28306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2000" y="233280"/>
            <a:ext cx="88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irtual Domains –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Separate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Mailboxes with 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virtual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Account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37000" y="1224000"/>
            <a:ext cx="526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f users only receive email at your server, and don't otherwise log in, you probabl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don't wan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o have to create local accounts for each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stead, configure Postfix to deliver to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local message stor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here each virtual email address can have its own mailbox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Your users then retrieve their messages through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POP/IMAP server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2720" y="5653080"/>
            <a:ext cx="728964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_mailbox_domains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aphir.com, </a:t>
            </a:r>
            <a:r>
              <a:rPr b="1" lang="en-US" sz="2000" spc="-1" strike="noStrike">
                <a:solidFill>
                  <a:srgbClr val="990033"/>
                </a:solidFill>
                <a:latin typeface="Courier New"/>
              </a:rPr>
              <a:t>opa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6640" y="1089000"/>
            <a:ext cx="2686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2000" y="233280"/>
            <a:ext cx="88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irtual Domains – Postfix as a Proxy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6880" y="819000"/>
            <a:ext cx="3210120" cy="585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16280" y="1333440"/>
            <a:ext cx="495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t up Postfix on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firewall machin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so that it forwards mail for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akadia.co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o a gateway machine on the inside HSZ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1600" y="3024360"/>
            <a:ext cx="5046480" cy="152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_alias_ma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:virtual_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akadia.com   Forward to hsz.aka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@akadia.com  @hsz.akadi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16280" y="4888080"/>
            <a:ext cx="5041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firewall machine must use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DNS Server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ithin the HSZ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ll Mailboxes are now within the HS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85920" y="907920"/>
            <a:ext cx="6300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7360" y="1314360"/>
            <a:ext cx="7785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t's common to find Postfix serving as an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intermediate nod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on the path a message follows to its ultimat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When a mail system does not have adequate connectivity, it can forward them to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another system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hat is in a better position for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elaying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stfix as a client in MTA-to-MTA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livery to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backup MX ho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Transport Map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Inbound Mail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Outbound Mail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UUCP, Fax, and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Other Deliverie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Mail Forwarding – Backup MX Host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7360" y="728640"/>
            <a:ext cx="778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backup MX server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is one that receives mail for a particular domain, but is not the preferred server to receive the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f the preferred server or servers are down, the backup MX server receives the mail and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queues i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until one of the more preferred servers comes back onlin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000" y="3924360"/>
            <a:ext cx="8570880" cy="2716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7000" y="3294000"/>
            <a:ext cx="729000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ay_domains =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he-backed-up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35120" y="233280"/>
            <a:ext cx="806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Mail Forwarding – Transport Map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7360" y="836640"/>
            <a:ext cx="77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stfix can be configured to relay to any other host,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egardles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of how DNS MX records are se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47720" y="5024520"/>
            <a:ext cx="5850000" cy="146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nsport_maps = dbm: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hsz.akadia.com      smtp:[192.168.138.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.hsz.akadia.com     smtp:[192.168.138.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localhost           smtp:[192.168.138.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85680" y="1681200"/>
            <a:ext cx="71424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85920" y="907920"/>
            <a:ext cx="670716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16280" y="1333440"/>
            <a:ext cx="495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anonica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ddre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f different mail systems on your network create addresses in different ways, you can relay them all through your Postfix gateway and have it fix up the addresses into your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tandard forma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anonical map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re often used to change addresses from an internal format to a public on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6280" y="5499000"/>
            <a:ext cx="6345360" cy="91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onical_maps = hash:cano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mz@akadia.com      marianne.zahn@akad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3720" y="1449360"/>
            <a:ext cx="3068640" cy="3451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The Role of the M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6640" y="1224000"/>
            <a:ext cx="799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ail Transport Agen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e.g. Postfix) is responsible for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delive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mail messages. Upon receiving a message from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ail User Agent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or another MTA it stores it temporarily locally and analyses the recipients and either delivers it (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local addressee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 or forwards it to another M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outing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). In either case it may edit the mail head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6280" y="3384720"/>
            <a:ext cx="8229600" cy="287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ddress Rewriting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0200" y="86508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Masquer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ide names of internal hosts or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6280" y="1773360"/>
            <a:ext cx="6345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querade_domains = aka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ser@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hsz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.akadia.com -&gt; user@aka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640" y="2798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Reloc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list of addresses that have moved to another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6280" y="3798720"/>
            <a:ext cx="6345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located_maps = hash:reloc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ff"/>
                </a:solidFill>
                <a:latin typeface="Courier New"/>
              </a:rPr>
              <a:t>old-user@akadia.com   user@domain.co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200" y="467352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Unknown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Not found in any lookup table and no local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5732640"/>
            <a:ext cx="6345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_recipient_map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luser_relay = zah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85920" y="907920"/>
            <a:ext cx="670716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09600" y="233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200" y="971640"/>
            <a:ext cx="7877160" cy="578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Fighting SPAM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1165320"/>
            <a:ext cx="4995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rise in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Unsolicited Commercial Email (UCE)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has become a nuisance to many email user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kadia gets 1000 – 1500 UCE’s per day, 99% are ca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pammers often try to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hide their trai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so their messages cannot be traced back to th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ke sure that you do not create an </a:t>
            </a:r>
            <a:r>
              <a:rPr b="0" i="1" lang="en-US" sz="2000" spc="-1" strike="noStrike">
                <a:solidFill>
                  <a:srgbClr val="4aacb4"/>
                </a:solidFill>
                <a:latin typeface="Verdana"/>
              </a:rPr>
              <a:t>Open Rela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hat spammers can use as 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launching poin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for their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6280" y="1392120"/>
            <a:ext cx="2816280" cy="2816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05240" y="4464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Verdana"/>
              </a:rPr>
              <a:t>Stop junk Emai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Fighting SPAM – Postfix anti-UCE Configuration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41280" y="907920"/>
            <a:ext cx="6661440" cy="5627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Fighting SPAM – Postfix anti-UCE Configuration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0840" y="946080"/>
            <a:ext cx="82803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MTPD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 client restrictio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ill put restrictions based on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Client IP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nd host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MTPD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 sender restrictio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ill put restrictions based on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ender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email address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MAIL FROM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MTPD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ecipient restrictio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ill put restrictions based on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ecipien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email address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RCPT TO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HSBL’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Real-time, Domain Based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Blacklist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filtration), contains lists of domains that are commonly used by spammers, open relays e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dditional to the above checks you may want to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can the Header and/or Bod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of the Message for UCE 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You cannot whitelist a sender or client in an access list to bypass the Header or Body chec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Fighting SPAM – Blocking Attachment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37000" y="1165320"/>
            <a:ext cx="441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o reject any messages that hav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attachment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whose files end in e.g. .com, .bat, .exe, .d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 the </a:t>
            </a: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mime_header_check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file, you will place a restriction for an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file extentso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hat you do not want to have passing through your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1680" y="1287360"/>
            <a:ext cx="4000320" cy="2590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27000" y="4878360"/>
            <a:ext cx="7245360" cy="131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me_header_checks = regexp:check_attac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/name=[^&gt;]*\.(com|bat|exe|dll)/ REJEC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628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85920" y="907920"/>
            <a:ext cx="670716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0840" y="2039760"/>
            <a:ext cx="828036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imple Authentication and Security Layer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SA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ansport Layer Securit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T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xternal Datab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MySQL, LD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Local Mail Transfer Protocol </a:t>
            </a:r>
            <a:r>
              <a:rPr b="0" lang="de-CH" sz="2000" spc="-1" strike="noStrike">
                <a:solidFill>
                  <a:srgbClr val="4aacb4"/>
                </a:solidFill>
                <a:latin typeface="Verdana"/>
              </a:rPr>
              <a:t>(LM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Integration of </a:t>
            </a:r>
            <a:r>
              <a:rPr b="0" lang="de-CH" sz="2000" spc="-1" strike="noStrike">
                <a:solidFill>
                  <a:srgbClr val="4aacb4"/>
                </a:solidFill>
                <a:latin typeface="Verdana"/>
              </a:rPr>
              <a:t>Cyrus IMAP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into Postfix (Virtual Accou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Mailing Lists &amp;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-List Managers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e.g. Majordo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External Content Filtering (</a:t>
            </a:r>
            <a:r>
              <a:rPr b="0" lang="de-CH" sz="2000" spc="-1" strike="noStrike">
                <a:solidFill>
                  <a:srgbClr val="4aacb4"/>
                </a:solidFill>
                <a:latin typeface="Verdana"/>
              </a:rPr>
              <a:t>Anti-Virus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0440" y="1297080"/>
            <a:ext cx="67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The following sections are not discussed in this spe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628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2360" y="819000"/>
            <a:ext cx="463536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40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333399"/>
                </a:solidFill>
                <a:latin typeface="Verdana"/>
              </a:rPr>
              <a:t>Email Message Format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089000"/>
            <a:ext cx="799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 common source of confusion for email users is the fact that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To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address in email message headers has nothing to do with where a message is actually deli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0" y="2168640"/>
            <a:ext cx="69753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0840" y="1438200"/>
            <a:ext cx="82803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a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fully working IT-Infrastructure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with DMZ and HSZ (Lin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your own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DNS Server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Nam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a complete Email Configuration with Anti-Spam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(Postf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Webmail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IMP - Hor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Security Policies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(Router, Fire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a robust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HTTP / HTTPS Server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Apache - Tomc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access to Databases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Oracle, MySQL) from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Intrusion Detection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Tripw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remote access  to the DMZ/HSZ from the Internet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(S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the Integration of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File/Printservers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(Sam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ppendix -  Aka</a:t>
            </a:r>
            <a:r>
              <a:rPr b="1" lang="en-US" sz="2000" spc="-1" strike="noStrike">
                <a:solidFill>
                  <a:srgbClr val="4aacb4"/>
                </a:solidFill>
                <a:latin typeface="Verdana"/>
              </a:rPr>
              <a:t>dia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can help you to setu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233280"/>
            <a:ext cx="823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ppendix - 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5480" y="1438200"/>
            <a:ext cx="74818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Postfix Home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(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postfix.org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)</a:t>
            </a:r>
            <a:br>
              <a:rPr sz="2000"/>
            </a:b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Wietse Zweitze Venema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porcupine.org/wietse/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Sendmail.org </a:t>
            </a:r>
            <a:r>
              <a:rPr b="0" lang="de-CH" sz="2000" spc="-1" strike="noStrike">
                <a:solidFill>
                  <a:srgbClr val="4aacb4"/>
                </a:solidFill>
                <a:latin typeface="Verdana"/>
              </a:rPr>
              <a:t>(</a:t>
            </a:r>
            <a:r>
              <a:rPr b="0" lang="de-CH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sendmail.org</a:t>
            </a:r>
            <a:r>
              <a:rPr b="0" lang="de-CH" sz="2000" spc="-1" strike="noStrike">
                <a:solidFill>
                  <a:srgbClr val="4aacb4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RHSBL Lists 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(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securitysage.com</a:t>
            </a:r>
            <a:r>
              <a:rPr b="0" lang="de-DE" sz="2000" spc="-1" strike="noStrike">
                <a:solidFill>
                  <a:srgbClr val="4aacb4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65520" y="4343400"/>
            <a:ext cx="356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Akadia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Arvenweg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CH-3604 Th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Martin Z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079 410 27 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martin.zahn@akadi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37000" y="126828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57360" y="585936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The End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233280"/>
            <a:ext cx="1495440" cy="49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497720" y="4932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408520" y="6564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333399"/>
                </a:solidFill>
                <a:latin typeface="Verdana"/>
              </a:rPr>
              <a:t>The SMTP Protocol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089000"/>
            <a:ext cx="79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imple Mail Transfer Protoco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is defined in RFC 2821. Using a Telnet client, you can pose as a delivering M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7680" y="1954080"/>
            <a:ext cx="5314680" cy="4714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ostfix Origin and 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224000"/>
            <a:ext cx="79948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stfix was written b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Wietse Venem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who is widely known for his security tools and pa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3399"/>
                </a:solidFill>
                <a:latin typeface="Verdana"/>
              </a:rPr>
              <a:t>Design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ase-of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mpatibility with Sendmail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11640" y="1584360"/>
            <a:ext cx="3429000" cy="487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6640" y="185760"/>
            <a:ext cx="8055000" cy="657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67000" y="907920"/>
            <a:ext cx="47260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Overview</a:t>
            </a:r>
            <a:br>
              <a:rPr sz="3600"/>
            </a:br>
            <a:r>
              <a:rPr b="1" lang="de-CH" sz="4800" spc="-1" strike="noStrike">
                <a:solidFill>
                  <a:srgbClr val="333399"/>
                </a:solidFill>
                <a:latin typeface="Verdana"/>
              </a:rPr>
              <a:t>Architecture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Email and D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Relay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Virtual Domains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Mail Forward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dress Rewriting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Fighting SPAM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dvanced Postfix</a:t>
            </a:r>
            <a:br>
              <a:rPr sz="3600"/>
            </a:br>
            <a:r>
              <a:rPr b="0" lang="de-CH" sz="3600" spc="-1" strike="noStrike">
                <a:solidFill>
                  <a:srgbClr val="333399"/>
                </a:solidFill>
                <a:latin typeface="Verdana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24000"/>
            <a:ext cx="1495440" cy="493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497720" y="139680"/>
            <a:ext cx="1428840" cy="72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57360" y="368280"/>
            <a:ext cx="7772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ostfix Archite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1494000"/>
            <a:ext cx="81453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No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onolithic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system such as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Send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ac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Postfix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breaks down tasks into separ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ost of the task ar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daemon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, which run in th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aemons are invoked by 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master daemon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master daemon is resident at all 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roadly speaking, Postfix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receive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messages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queue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hem, and finally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delivers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4aacb4"/>
                </a:solidFill>
                <a:latin typeface="Verdana"/>
              </a:rPr>
              <a:t>queue manager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invokes the appropriate delivery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  agent for the final disposition of the messag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99240" y="656424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Verdana"/>
              </a:rPr>
              <a:t>Pag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1:55:49Z</dcterms:created>
  <dc:creator>Martin Zahn</dc:creator>
  <dc:description/>
  <dc:language>en-US</dc:language>
  <cp:lastModifiedBy>Martin Zahn</cp:lastModifiedBy>
  <dcterms:modified xsi:type="dcterms:W3CDTF">2004-01-27T14:07:04Z</dcterms:modified>
  <cp:revision>93</cp:revision>
  <dc:subject/>
  <dc:title>Postfix – Master of the MTAs</dc:title>
</cp:coreProperties>
</file>